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7A4F-9932-4911-9510-537ED8C6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F2E5-F64B-4FF0-8E88-E61460A3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43C9-838E-4ACA-B59A-990A4A4D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BC70-AA8F-4A89-9848-2837129A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DF38-36D7-4BF2-828C-22EED49F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9E66-4863-442E-BBED-B172523E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F2D6-73D4-4F67-A54C-F3084F4B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69EA-C22F-4267-8828-3A13B2CE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0F8C-6946-465D-BA1B-D707DBAB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56AF-1F8F-4EE1-AA5E-86BFCB95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72D5-2C7B-4416-B371-EC6A1A38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E4D0-BF5E-45B9-9A00-0F4AE760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C480-EB12-404C-9739-EACBE673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DE5B-AE7C-4577-A994-08FEAD9D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BB17-2189-41A8-9437-E1B2882D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BFA4-D21F-4968-9FC8-48F620F3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F344-90A4-427C-B0B1-2BA78E81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AFC01-96DD-4499-AE16-D5CAEF30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F8C9-E8E3-4C49-9458-F1DFAADC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317B-1251-4632-A830-503B6275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DD0D-A29B-4DCF-9C28-74FC2F5E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C60A-267E-4EB0-A208-F2B3DDA6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48EA-A69D-454A-9505-6EB237E1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BAA8-461F-4507-85FC-43FF4D5B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B084-2A51-4CF7-A99F-E1E72D76DC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5E5A-3D58-48E1-AE7B-9EAE35CDFE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dfdef6"/>
                </a:solidFill>
                <a:latin typeface="Arial"/>
              </a:rPr>
              <a:t>APARIŢIA ŞI RĂSPÂNDIREA CREŞTINISMULUI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ef6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990720" y="3890520"/>
            <a:ext cx="678168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ef6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5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1"/>
          <a:srcRect l="0" t="53063" r="0" b="0"/>
          <a:stretch/>
        </p:blipFill>
        <p:spPr>
          <a:xfrm>
            <a:off x="5181480" y="3368520"/>
            <a:ext cx="1435320" cy="673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ef6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fica</cp:lastModifiedBy>
  <dcterms:modified xsi:type="dcterms:W3CDTF">2012-06-19T10:59:5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